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2.png" ContentType="image/png"/>
  <Override PartName="/ppt/media/image51.wmf" ContentType="image/x-wmf"/>
  <Override PartName="/ppt/media/image29.png" ContentType="image/png"/>
  <Override PartName="/ppt/media/image48.png" ContentType="image/png"/>
  <Override PartName="/ppt/media/image46.wmf" ContentType="image/x-wmf"/>
  <Override PartName="/ppt/media/image45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3.jpeg" ContentType="image/jpeg"/>
  <Override PartName="/ppt/media/image40.wmf" ContentType="image/x-wmf"/>
  <Override PartName="/ppt/media/image6.png" ContentType="image/png"/>
  <Override PartName="/ppt/media/image83.png" ContentType="image/png"/>
  <Override PartName="/ppt/media/image38.png" ContentType="image/png"/>
  <Override PartName="/ppt/media/image60.wmf" ContentType="image/x-wmf"/>
  <Override PartName="/ppt/media/image36.wmf" ContentType="image/x-wmf"/>
  <Override PartName="/ppt/media/image35.wmf" ContentType="image/x-wmf"/>
  <Override PartName="/ppt/media/image78.png" ContentType="image/png"/>
  <Override PartName="/ppt/media/image34.wmf" ContentType="image/x-wmf"/>
  <Override PartName="/ppt/media/image33.png" ContentType="image/png"/>
  <Override PartName="/ppt/media/image31.wmf" ContentType="image/x-wmf"/>
  <Override PartName="/ppt/media/image30.wmf" ContentType="image/x-wmf"/>
  <Override PartName="/ppt/media/image73.png" ContentType="image/png"/>
  <Override PartName="/ppt/media/image37.wmf" ContentType="image/x-wmf"/>
  <Override PartName="/ppt/media/image2.jpeg" ContentType="image/jpeg"/>
  <Override PartName="/ppt/media/image18.wmf" ContentType="image/x-wmf"/>
  <Override PartName="/ppt/media/image21.wmf" ContentType="image/x-wmf"/>
  <Override PartName="/ppt/media/image64.png" ContentType="image/png"/>
  <Override PartName="/ppt/media/image57.wmf" ContentType="image/x-wmf"/>
  <Override PartName="/ppt/media/image20.wmf" ContentType="image/x-wmf"/>
  <Override PartName="/ppt/media/image22.wmf" ContentType="image/x-wmf"/>
  <Override PartName="/ppt/media/image61.png" ContentType="image/png"/>
  <Override PartName="/ppt/media/image59.wmf" ContentType="image/x-wmf"/>
  <Override PartName="/ppt/media/image27.wmf" ContentType="image/x-wmf"/>
  <Override PartName="/ppt/media/image62.png" ContentType="image/png"/>
  <Override PartName="/ppt/media/image63.wmf" ContentType="image/x-wmf"/>
  <Override PartName="/ppt/media/image84.png" ContentType="image/png"/>
  <Override PartName="/ppt/media/image72.png" ContentType="image/png"/>
  <Override PartName="/ppt/media/image24.png" ContentType="image/png"/>
  <Override PartName="/ppt/media/image79.wmf" ContentType="image/x-wmf"/>
  <Override PartName="/ppt/media/image39.png" ContentType="image/png"/>
  <Override PartName="/ppt/media/image77.wmf" ContentType="image/x-wmf"/>
  <Override PartName="/ppt/media/image28.wmf" ContentType="image/x-wmf"/>
  <Override PartName="/ppt/media/image67.png" ContentType="image/png"/>
  <Override PartName="/ppt/media/image65.wmf" ContentType="image/x-wmf"/>
  <Override PartName="/ppt/media/image25.png" ContentType="image/png"/>
  <Override PartName="/ppt/media/image76.png" ContentType="image/png"/>
  <Override PartName="/ppt/media/image75.wmf" ContentType="image/x-wmf"/>
  <Override PartName="/ppt/media/image74.wmf" ContentType="image/x-wmf"/>
  <Override PartName="/ppt/media/image26.wmf" ContentType="image/x-wmf"/>
  <Override PartName="/ppt/media/image69.png" ContentType="image/png"/>
  <Override PartName="/ppt/media/image71.png" ContentType="image/png"/>
  <Override PartName="/ppt/media/image32.wmf" ContentType="image/x-wmf"/>
  <Override PartName="/ppt/media/image68.png" ContentType="image/png"/>
  <Override PartName="/ppt/media/image70.png" ContentType="image/png"/>
  <Override PartName="/ppt/media/image66.wmf" ContentType="image/x-wmf"/>
  <Override PartName="/ppt/media/image81.wmf" ContentType="image/x-wmf"/>
  <Override PartName="/ppt/media/image16.wmf" ContentType="image/x-wmf"/>
  <Override PartName="/ppt/media/image55.png" ContentType="image/png"/>
  <Override PartName="/ppt/media/image14.png" ContentType="image/png"/>
  <Override PartName="/ppt/media/image4.jpeg" ContentType="image/jpeg"/>
  <Override PartName="/ppt/media/image8.wmf" ContentType="image/x-wmf"/>
  <Override PartName="/ppt/media/image7.wmf" ContentType="image/x-wmf"/>
  <Override PartName="/ppt/media/image19.wmf" ContentType="image/x-wmf"/>
  <Override PartName="/ppt/media/image80.wmf" ContentType="image/x-wmf"/>
  <Override PartName="/ppt/media/image58.png" ContentType="image/png"/>
  <Override PartName="/ppt/media/image15.wmf" ContentType="image/x-wmf"/>
  <Override PartName="/ppt/media/image1.jpeg" ContentType="image/jpeg"/>
  <Override PartName="/ppt/media/image47.png" ContentType="image/png"/>
  <Override PartName="/ppt/media/image17.png" ContentType="image/png"/>
  <Override PartName="/ppt/media/image5.png" ContentType="image/png"/>
  <Override PartName="/ppt/media/image82.png" ContentType="image/png"/>
  <Override PartName="/ppt/media/image12.png" ContentType="image/png"/>
  <Override PartName="/ppt/media/image49.png" ContentType="image/png"/>
  <Override PartName="/ppt/media/image10.wmf" ContentType="image/x-wmf"/>
  <Override PartName="/ppt/media/image13.png" ContentType="image/png"/>
  <Override PartName="/ppt/media/image53.wmf" ContentType="image/x-wmf"/>
  <Override PartName="/ppt/media/image42.wmf" ContentType="image/x-wmf"/>
  <Override PartName="/ppt/media/image23.jpeg" ContentType="image/jpeg"/>
  <Override PartName="/ppt/media/image85.png" ContentType="image/png"/>
  <Override PartName="/ppt/media/image54.png" ContentType="image/png"/>
  <Override PartName="/ppt/media/image11.wmf" ContentType="image/x-wmf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D93-6104-4E2D-B8D5-19980300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35B-E3E7-4620-B72C-274B119B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327-257F-4930-B76C-BCD55D3A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38D-B38A-448A-B9C0-309627FA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3682-0C9D-451E-9295-314BBD8A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3C69-DD53-47F4-B249-FC3A5710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4002-1086-467A-8454-26CE5CAB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42CC-29CC-4356-B26B-4A6388A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4363-D092-4758-8511-A0CD21FF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B66-1694-4E95-A42F-B4A38F6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F81E-BD48-46E0-B3CE-D3C7E767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913-C5F7-4402-964A-E653285A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C5B6-E232-4087-963A-32E1425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8BD-C0B7-4567-8F9D-844546B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5C13-CE43-404D-ADE0-B45A657B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C97-C91C-4DCC-AE99-CFDC1724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CEAB-98A0-432C-9E48-6ABA5CAE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C64-5888-4DB7-9968-6044DE3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A65-FAAF-4C51-8B7E-0E8C811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5D1-7DB8-4D82-872A-D913E6DE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D21-AEA7-44A3-B479-24548439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7E5-4B1A-471C-9CB7-FEA5450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6CD-00C1-479E-B9E0-40698CF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ADBE-2034-4504-9C48-14B2328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E4C-2769-4ED0-B982-12B35E2C3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7138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55B5-A5AA-41C9-BACF-72D38C87D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png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png"/><Relationship Id="rId8" Type="http://schemas.openxmlformats.org/officeDocument/2006/relationships/image" Target="../media/image77.wmf"/><Relationship Id="rId9" Type="http://schemas.openxmlformats.org/officeDocument/2006/relationships/image" Target="../media/image78.png"/><Relationship Id="rId10" Type="http://schemas.openxmlformats.org/officeDocument/2006/relationships/image" Target="../media/image79.wmf"/><Relationship Id="rId1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84.png"/><Relationship Id="rId6" Type="http://schemas.openxmlformats.org/officeDocument/2006/relationships/image" Target="../media/image85.png"/><Relationship Id="rId7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e916"/>
                </a:solidFill>
                <a:latin typeface="Arial Narrow"/>
              </a:rPr>
              <a:t>Becoming a Webhead 200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16"/>
                </a:solidFill>
                <a:latin typeface="Arial Narrow"/>
              </a:rPr>
              <a:t>Participants’ Pho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3124080"/>
            <a:ext cx="6095880" cy="0"/>
          </a:xfrm>
          <a:prstGeom prst="line">
            <a:avLst/>
          </a:prstGeom>
          <a:ln w="28440">
            <a:solidFill>
              <a:srgbClr val="f7e9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r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h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102564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1447920"/>
            <a:ext cx="947880" cy="1218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8954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tal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110016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Jap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9856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819520" y="137160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8954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lisabe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azakh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a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83808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Kore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 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3640" cy="129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Mexico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Áng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8744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73280" cy="114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New Zea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t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c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6832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10364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ortug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i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779400" cy="1143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09224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387440" y="1523880"/>
            <a:ext cx="901800" cy="1141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41008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ere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447920" y="3200400"/>
            <a:ext cx="88092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ris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666880" y="3200400"/>
            <a:ext cx="990720" cy="1143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7432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Fern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4114800" y="3200400"/>
            <a:ext cx="828720" cy="1143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11480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amo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Peru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ol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102852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743200" y="1523880"/>
            <a:ext cx="8967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Russ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e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915840" cy="1218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799920" cy="1218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1911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f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Argentin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57080" cy="106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91728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371600" y="3276720"/>
            <a:ext cx="76212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590920" y="3276720"/>
            <a:ext cx="100332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R</a:t>
            </a:r>
            <a:r>
              <a:rPr b="0" lang="en-US" sz="1000" spc="-1" strike="noStrike">
                <a:solidFill>
                  <a:srgbClr val="f7e916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lad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7432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ennifer 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2743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19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elb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419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ic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438280" y="175248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114800" y="1676520"/>
            <a:ext cx="811080" cy="990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5410080" y="1676520"/>
            <a:ext cx="692280" cy="99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love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841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2480" y="25909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7e916"/>
                </a:solidFill>
                <a:latin typeface="Liborsoft Czechia"/>
              </a:rPr>
              <a:t>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pai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Lu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095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uda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a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12880" cy="1168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ede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riss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184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Switzer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14400" cy="1219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iw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26668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Tsueyling (Dori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973080" cy="13716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ajikista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brahi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716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hailand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a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68240" cy="10144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Turke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</a:t>
            </a:r>
            <a:r>
              <a:rPr b="0" lang="en-US" sz="1200" spc="-1" strike="noStrike">
                <a:solidFill>
                  <a:srgbClr val="f7e916"/>
                </a:solidFill>
                <a:latin typeface="Liborsoft Czechia"/>
              </a:rPr>
              <a:t>ø</a:t>
            </a: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2590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ry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83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113508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a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han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46000" cy="1224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82404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936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razi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essand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au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nam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arla 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Isa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osé Antôn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uli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38080" cy="1067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79056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785880" cy="1067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858600" cy="1051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705720" y="1523880"/>
            <a:ext cx="946080" cy="1067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948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2590920" y="320040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334120" y="3124080"/>
            <a:ext cx="958680" cy="1067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341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nal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6705720" y="3124080"/>
            <a:ext cx="898560" cy="1067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05720" y="4343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Ros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1371600" y="4876920"/>
            <a:ext cx="800280" cy="1041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60199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2666880" y="4876920"/>
            <a:ext cx="800280" cy="1066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14600" y="6019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Val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4038480" y="3200400"/>
            <a:ext cx="927360" cy="1066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384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ôn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krain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93996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U.S.A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her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o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rgar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er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4343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san 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 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943200" cy="1067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1270080" cy="1067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962520" y="1523880"/>
            <a:ext cx="776160" cy="10670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695160" cy="1067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7010280" y="1523880"/>
            <a:ext cx="73044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1371600" y="3200400"/>
            <a:ext cx="876240" cy="106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851040" cy="106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8"/>
          <a:stretch/>
        </p:blipFill>
        <p:spPr>
          <a:xfrm>
            <a:off x="3962520" y="3200400"/>
            <a:ext cx="95400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9"/>
          <a:stretch/>
        </p:blipFill>
        <p:spPr>
          <a:xfrm>
            <a:off x="5410080" y="3048120"/>
            <a:ext cx="946440" cy="1218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8640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l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4343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arah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0"/>
          <a:stretch/>
        </p:blipFill>
        <p:spPr>
          <a:xfrm>
            <a:off x="6934320" y="3124080"/>
            <a:ext cx="85392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Venezuel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er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4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Hora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Clev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Evely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Nah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af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755640" cy="1143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9795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757440" cy="1143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771480" cy="10540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324480" y="1447920"/>
            <a:ext cx="795600" cy="1143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>
            <a:off x="1371600" y="1523880"/>
            <a:ext cx="87480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676160" y="2743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With your collabora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e916"/>
                </a:solidFill>
                <a:latin typeface="Arial Narrow"/>
              </a:rPr>
              <a:t>more photos will be added so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Canad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666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A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6668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J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2666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Lea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62520" y="1523880"/>
            <a:ext cx="90324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785520" cy="1143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25780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K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666880" y="1523880"/>
            <a:ext cx="8334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Eston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Sue W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851040" cy="110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Fran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oi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erman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6668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Barb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ur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6668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Dennis-De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959040" cy="106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8240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1066680" cy="104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311120" y="14479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486400" y="26668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Max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Greec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66688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Georgios (J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1892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389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3530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Becoming a Webhead 2007 Photos</a:t>
            </a:r>
            <a:br>
              <a:rPr sz="1600"/>
            </a:br>
            <a:r>
              <a:rPr b="1" lang="en-US" sz="1600" spc="-1" strike="noStrike">
                <a:solidFill>
                  <a:srgbClr val="f7e916"/>
                </a:solidFill>
                <a:latin typeface="Arial Narrow"/>
              </a:rPr>
              <a:t>India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666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e916"/>
                </a:solidFill>
                <a:latin typeface="Arial"/>
              </a:rPr>
              <a:t>Prani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863640" cy="120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8:18:38Z</dcterms:created>
  <dc:creator>Trial User</dc:creator>
  <dc:description/>
  <dc:language>en-US</dc:language>
  <cp:lastModifiedBy>DAF</cp:lastModifiedBy>
  <cp:lastPrinted>1904-01-01T00:00:00Z</cp:lastPrinted>
  <dcterms:modified xsi:type="dcterms:W3CDTF">2007-03-16T22:18:05Z</dcterms:modified>
  <cp:revision>70</cp:revision>
  <dc:subject/>
  <dc:title>Becoming a Webhead 2007</dc:title>
</cp:coreProperties>
</file>