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2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3.jpeg" ContentType="image/jpeg"/>
  <Override PartName="/ppt/media/image40.wmf" ContentType="image/x-wmf"/>
  <Override PartName="/ppt/media/image6.png" ContentType="image/png"/>
  <Override PartName="/ppt/media/image83.png" ContentType="image/png"/>
  <Override PartName="/ppt/media/image38.png" ContentType="image/png"/>
  <Override PartName="/ppt/media/image60.wmf" ContentType="image/x-wmf"/>
  <Override PartName="/ppt/media/image36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33.png" ContentType="image/png"/>
  <Override PartName="/ppt/media/image31.wmf" ContentType="image/x-wmf"/>
  <Override PartName="/ppt/media/image30.wmf" ContentType="image/x-wmf"/>
  <Override PartName="/ppt/media/image73.png" ContentType="image/png"/>
  <Override PartName="/ppt/media/image37.wmf" ContentType="image/x-wmf"/>
  <Override PartName="/ppt/media/image2.jpeg" ContentType="image/jpeg"/>
  <Override PartName="/ppt/media/image18.wmf" ContentType="image/x-wmf"/>
  <Override PartName="/ppt/media/image21.wmf" ContentType="image/x-wmf"/>
  <Override PartName="/ppt/media/image64.png" ContentType="image/png"/>
  <Override PartName="/ppt/media/image57.wmf" ContentType="image/x-wmf"/>
  <Override PartName="/ppt/media/image20.wmf" ContentType="image/x-wmf"/>
  <Override PartName="/ppt/media/image22.wmf" ContentType="image/x-wmf"/>
  <Override PartName="/ppt/media/image61.png" ContentType="image/png"/>
  <Override PartName="/ppt/media/image59.wmf" ContentType="image/x-wmf"/>
  <Override PartName="/ppt/media/image27.wmf" ContentType="image/x-wmf"/>
  <Override PartName="/ppt/media/image62.png" ContentType="image/png"/>
  <Override PartName="/ppt/media/image63.wmf" ContentType="image/x-wmf"/>
  <Override PartName="/ppt/media/image84.png" ContentType="image/png"/>
  <Override PartName="/ppt/media/image72.png" ContentType="image/png"/>
  <Override PartName="/ppt/media/image24.png" ContentType="image/png"/>
  <Override PartName="/ppt/media/image79.wmf" ContentType="image/x-wmf"/>
  <Override PartName="/ppt/media/image39.png" ContentType="image/png"/>
  <Override PartName="/ppt/media/image77.wmf" ContentType="image/x-wmf"/>
  <Override PartName="/ppt/media/image28.wmf" ContentType="image/x-wmf"/>
  <Override PartName="/ppt/media/image67.png" ContentType="image/png"/>
  <Override PartName="/ppt/media/image65.wmf" ContentType="image/x-wmf"/>
  <Override PartName="/ppt/media/image25.png" ContentType="image/png"/>
  <Override PartName="/ppt/media/image76.png" ContentType="image/png"/>
  <Override PartName="/ppt/media/image75.wmf" ContentType="image/x-wmf"/>
  <Override PartName="/ppt/media/image74.wmf" ContentType="image/x-wmf"/>
  <Override PartName="/ppt/media/image26.wmf" ContentType="image/x-wmf"/>
  <Override PartName="/ppt/media/image69.png" ContentType="image/png"/>
  <Override PartName="/ppt/media/image71.png" ContentType="image/png"/>
  <Override PartName="/ppt/media/image32.wmf" ContentType="image/x-wmf"/>
  <Override PartName="/ppt/media/image68.png" ContentType="image/png"/>
  <Override PartName="/ppt/media/image70.png" ContentType="image/png"/>
  <Override PartName="/ppt/media/image66.wmf" ContentType="image/x-wmf"/>
  <Override PartName="/ppt/media/image81.wmf" ContentType="image/x-wmf"/>
  <Override PartName="/ppt/media/image16.wmf" ContentType="image/x-wmf"/>
  <Override PartName="/ppt/media/image55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7.wmf" ContentType="image/x-wmf"/>
  <Override PartName="/ppt/media/image19.wmf" ContentType="image/x-wmf"/>
  <Override PartName="/ppt/media/image80.wmf" ContentType="image/x-wmf"/>
  <Override PartName="/ppt/media/image58.png" ContentType="image/png"/>
  <Override PartName="/ppt/media/image15.wmf" ContentType="image/x-wmf"/>
  <Override PartName="/ppt/media/image1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82.png" ContentType="image/png"/>
  <Override PartName="/ppt/media/image12.png" ContentType="image/png"/>
  <Override PartName="/ppt/media/image49.png" ContentType="image/png"/>
  <Override PartName="/ppt/media/image10.wmf" ContentType="image/x-wmf"/>
  <Override PartName="/ppt/media/image13.png" ContentType="image/png"/>
  <Override PartName="/ppt/media/image53.wmf" ContentType="image/x-wmf"/>
  <Override PartName="/ppt/media/image42.wmf" ContentType="image/x-wmf"/>
  <Override PartName="/ppt/media/image23.jpeg" ContentType="image/jpeg"/>
  <Override PartName="/ppt/media/image85.png" ContentType="image/png"/>
  <Override PartName="/ppt/media/image54.png" ContentType="image/png"/>
  <Override PartName="/ppt/media/image11.wmf" ContentType="image/x-wmf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A60-8A6E-4BD9-9831-CEB1297B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896-F488-48B0-8D5B-26176DED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FA5-592E-4809-B22E-EB7D3E94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40D-00A9-4CA8-B406-09796C2A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CE8B-F6A0-426A-86FF-256D7ED6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B677-FFAF-4B1F-9490-BE7727AB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57DD-8768-4B5F-BAA0-E31A945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681C-3E70-4CAE-ABA7-13A414B8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0DD2-D30D-4AF7-99C0-AA7C8B5E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068E-AEAB-45B4-A23A-AD50BA17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7C08-0442-4C16-960C-CCED22E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2EF-2230-44B7-877D-76E98BD2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5DE1-ED55-4AA7-A098-0BCE3DD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2C5-2644-4E7F-9E2D-DABE7F1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379B-B641-4D72-89C9-5AF23584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8DBD-D197-4437-9750-74BF33A5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CEE2-28BD-4914-B653-930F827E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4C5-0BD3-463A-B5CF-59967EF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452-4D28-4AE3-87DD-63B872A1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207-B1DA-4CB2-A0FA-7C526F7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313-BC04-4604-BD6D-7923D6B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090-1FAF-4C10-82D6-C7281A7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255-7EFC-4117-9EDC-C4D5F8DD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D86-900A-4FE4-A356-E551C46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6512-6EB6-42D6-B2F6-306713406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CA5E-825D-439E-9A5C-B13A7F99F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png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png"/><Relationship Id="rId8" Type="http://schemas.openxmlformats.org/officeDocument/2006/relationships/image" Target="../media/image77.wmf"/><Relationship Id="rId9" Type="http://schemas.openxmlformats.org/officeDocument/2006/relationships/image" Target="../media/image78.png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e916"/>
                </a:solidFill>
                <a:latin typeface="Arial Narrow"/>
              </a:rPr>
              <a:t>Becoming a Webhead 200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16"/>
                </a:solidFill>
                <a:latin typeface="Arial Narrow"/>
              </a:rPr>
              <a:t>Participants’ Pho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124080"/>
            <a:ext cx="6095880" cy="0"/>
          </a:xfrm>
          <a:prstGeom prst="line">
            <a:avLst/>
          </a:prstGeom>
          <a:ln w="28440">
            <a:solidFill>
              <a:srgbClr val="f7e9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r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hs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102564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947880" cy="1218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954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 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tal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110016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Jap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lisabe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Kazakhst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al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8380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Kore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ris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6364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Mexic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Áng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8744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328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New Zea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net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aci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10364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Portug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Lil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a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7794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09224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387440" y="1523880"/>
            <a:ext cx="901800" cy="1141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41008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Tere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88092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479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ris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666880" y="32004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74320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Ferna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14800" y="3200400"/>
            <a:ext cx="82872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1480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amo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Peru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ol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102852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8967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Russ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u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915840" cy="1218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799920" cy="1218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1911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f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Argentin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5708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91728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71600" y="327672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90920" y="3276720"/>
            <a:ext cx="100332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743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la R</a:t>
            </a:r>
            <a:r>
              <a:rPr b="0" lang="en-US" sz="1000" spc="-1" strike="noStrike">
                <a:solidFill>
                  <a:srgbClr val="f7e916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lad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ennifer 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2743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19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elb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419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ic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114800" y="1676520"/>
            <a:ext cx="811080" cy="99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5410080" y="1676520"/>
            <a:ext cx="692280" cy="99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loven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41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2480" y="2590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e916"/>
                </a:solidFill>
                <a:latin typeface="Liborsoft Czechia"/>
              </a:rPr>
              <a:t>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pai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sé Lu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61760" cy="10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udan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Ha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12880" cy="1168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wede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riss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6184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witzer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aiw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Tsueyling (Dori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973080" cy="13716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ajikist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Ibrahi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hai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68240" cy="1014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urke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Ka</a:t>
            </a:r>
            <a:r>
              <a:rPr b="0" lang="en-US" sz="1200" spc="-1" strike="noStrike">
                <a:solidFill>
                  <a:srgbClr val="f7e916"/>
                </a:solidFill>
                <a:latin typeface="Liborsoft Czechia"/>
              </a:rPr>
              <a:t>ø</a:t>
            </a: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2590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r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83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135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K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ma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han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46000" cy="1224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82404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936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razi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essand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lau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am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la 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sé Antôn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ul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79056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785880" cy="1067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858600" cy="10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705720" y="1523880"/>
            <a:ext cx="946080" cy="106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371600" y="3200400"/>
            <a:ext cx="87948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90920" y="32004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334120" y="3124080"/>
            <a:ext cx="958680" cy="1067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41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onal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705720" y="3124080"/>
            <a:ext cx="8985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057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os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1371600" y="4876920"/>
            <a:ext cx="800280" cy="104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6019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2666880" y="48769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6019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al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4038480" y="3200400"/>
            <a:ext cx="927360" cy="1066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384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ôn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krain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3996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.S.A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er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o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gar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er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 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nnis 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943200" cy="1067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1270080" cy="1067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962520" y="1523880"/>
            <a:ext cx="776160" cy="10670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695160" cy="1067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7010280" y="1523880"/>
            <a:ext cx="73044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371600" y="3200400"/>
            <a:ext cx="876240" cy="106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851040" cy="106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3962520" y="3200400"/>
            <a:ext cx="95400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5410080" y="3048120"/>
            <a:ext cx="946440" cy="1218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8640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rah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0"/>
          <a:stretch/>
        </p:blipFill>
        <p:spPr>
          <a:xfrm>
            <a:off x="6934320" y="3124080"/>
            <a:ext cx="85392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Venezuel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Ber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44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Hora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lev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vely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ah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666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af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9795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75744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771480" cy="1054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6324480" y="1447920"/>
            <a:ext cx="795600" cy="1143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1371600" y="1523880"/>
            <a:ext cx="87480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676160" y="2743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916"/>
                </a:solidFill>
                <a:latin typeface="Arial Narrow"/>
              </a:rPr>
              <a:t>With your collabora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916"/>
                </a:solidFill>
                <a:latin typeface="Arial Narrow"/>
              </a:rPr>
              <a:t>more photos will be added so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Can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666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Lea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90324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78552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25780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K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666880" y="1523880"/>
            <a:ext cx="833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Eston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e W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51040" cy="110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Franc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oi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German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Barb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ur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666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nnis-De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959040" cy="106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106668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311120" y="14479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864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x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Greec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666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eorgios (J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189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nd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rani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63640" cy="120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8:18:38Z</dcterms:created>
  <dc:creator>Trial User</dc:creator>
  <dc:description/>
  <dc:language>en-US</dc:language>
  <cp:lastModifiedBy>DAF</cp:lastModifiedBy>
  <cp:lastPrinted>1904-01-01T00:00:00Z</cp:lastPrinted>
  <dcterms:modified xsi:type="dcterms:W3CDTF">2007-03-16T22:18:05Z</dcterms:modified>
  <cp:revision>70</cp:revision>
  <dc:subject/>
  <dc:title>Becoming a Webhead 2007</dc:title>
</cp:coreProperties>
</file>