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2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.jpeg" ContentType="image/jpeg"/>
  <Override PartName="/ppt/media/image40.wmf" ContentType="image/x-wmf"/>
  <Override PartName="/ppt/media/image6.png" ContentType="image/png"/>
  <Override PartName="/ppt/media/image83.png" ContentType="image/png"/>
  <Override PartName="/ppt/media/image38.png" ContentType="image/png"/>
  <Override PartName="/ppt/media/image60.wmf" ContentType="image/x-wmf"/>
  <Override PartName="/ppt/media/image36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33.png" ContentType="image/png"/>
  <Override PartName="/ppt/media/image31.wmf" ContentType="image/x-wmf"/>
  <Override PartName="/ppt/media/image30.wmf" ContentType="image/x-wmf"/>
  <Override PartName="/ppt/media/image73.png" ContentType="image/png"/>
  <Override PartName="/ppt/media/image37.wmf" ContentType="image/x-wmf"/>
  <Override PartName="/ppt/media/image2.jpeg" ContentType="image/jpeg"/>
  <Override PartName="/ppt/media/image18.wmf" ContentType="image/x-wmf"/>
  <Override PartName="/ppt/media/image21.wmf" ContentType="image/x-wmf"/>
  <Override PartName="/ppt/media/image64.png" ContentType="image/png"/>
  <Override PartName="/ppt/media/image57.wmf" ContentType="image/x-wmf"/>
  <Override PartName="/ppt/media/image20.wmf" ContentType="image/x-wmf"/>
  <Override PartName="/ppt/media/image22.wmf" ContentType="image/x-wmf"/>
  <Override PartName="/ppt/media/image61.png" ContentType="image/png"/>
  <Override PartName="/ppt/media/image59.wmf" ContentType="image/x-wmf"/>
  <Override PartName="/ppt/media/image27.wmf" ContentType="image/x-wmf"/>
  <Override PartName="/ppt/media/image62.png" ContentType="image/png"/>
  <Override PartName="/ppt/media/image63.wmf" ContentType="image/x-wmf"/>
  <Override PartName="/ppt/media/image84.png" ContentType="image/png"/>
  <Override PartName="/ppt/media/image72.png" ContentType="image/png"/>
  <Override PartName="/ppt/media/image24.png" ContentType="image/png"/>
  <Override PartName="/ppt/media/image79.wmf" ContentType="image/x-wmf"/>
  <Override PartName="/ppt/media/image39.png" ContentType="image/png"/>
  <Override PartName="/ppt/media/image77.wmf" ContentType="image/x-wmf"/>
  <Override PartName="/ppt/media/image28.wmf" ContentType="image/x-wmf"/>
  <Override PartName="/ppt/media/image67.png" ContentType="image/png"/>
  <Override PartName="/ppt/media/image65.wmf" ContentType="image/x-wmf"/>
  <Override PartName="/ppt/media/image25.png" ContentType="image/png"/>
  <Override PartName="/ppt/media/image76.png" ContentType="image/png"/>
  <Override PartName="/ppt/media/image75.wmf" ContentType="image/x-wmf"/>
  <Override PartName="/ppt/media/image74.wmf" ContentType="image/x-wmf"/>
  <Override PartName="/ppt/media/image26.wmf" ContentType="image/x-wmf"/>
  <Override PartName="/ppt/media/image69.png" ContentType="image/png"/>
  <Override PartName="/ppt/media/image71.png" ContentType="image/png"/>
  <Override PartName="/ppt/media/image32.wmf" ContentType="image/x-wmf"/>
  <Override PartName="/ppt/media/image68.png" ContentType="image/png"/>
  <Override PartName="/ppt/media/image70.png" ContentType="image/png"/>
  <Override PartName="/ppt/media/image66.wmf" ContentType="image/x-wmf"/>
  <Override PartName="/ppt/media/image81.wmf" ContentType="image/x-wmf"/>
  <Override PartName="/ppt/media/image16.wmf" ContentType="image/x-wmf"/>
  <Override PartName="/ppt/media/image55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7.wmf" ContentType="image/x-wmf"/>
  <Override PartName="/ppt/media/image19.wmf" ContentType="image/x-wmf"/>
  <Override PartName="/ppt/media/image80.wmf" ContentType="image/x-wmf"/>
  <Override PartName="/ppt/media/image58.png" ContentType="image/png"/>
  <Override PartName="/ppt/media/image15.wmf" ContentType="image/x-wmf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82.png" ContentType="image/png"/>
  <Override PartName="/ppt/media/image12.png" ContentType="image/png"/>
  <Override PartName="/ppt/media/image49.png" ContentType="image/png"/>
  <Override PartName="/ppt/media/image10.wmf" ContentType="image/x-wmf"/>
  <Override PartName="/ppt/media/image13.png" ContentType="image/png"/>
  <Override PartName="/ppt/media/image53.wmf" ContentType="image/x-wmf"/>
  <Override PartName="/ppt/media/image42.wmf" ContentType="image/x-wmf"/>
  <Override PartName="/ppt/media/image23.jpeg" ContentType="image/jpeg"/>
  <Override PartName="/ppt/media/image85.png" ContentType="image/png"/>
  <Override PartName="/ppt/media/image54.png" ContentType="image/png"/>
  <Override PartName="/ppt/media/image11.wmf" ContentType="image/x-wmf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9F2-471B-47F9-95DF-78329D25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75E3-ABE1-4A17-B55D-F7F565AF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9CC-2B60-4C41-9641-885C863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6C46-F6D0-4994-B30C-0FA6D695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A027-5865-4149-9675-5CB08432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4549-3A69-4C24-B3BE-8DBCAEA3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853D-195D-4164-AFBB-CD8FC010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1C89-C356-49C3-B69F-B4C911B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305D-CCCA-4547-9A32-45F961AC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A100-8DB8-4D0F-8BDC-315BE9D1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B83C-0097-444F-9A2D-93C9AEC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F764-D1B6-47DA-B3C6-F67ACA0F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EEAC-7A25-4ADF-8958-4736CF7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FAF-686E-4AB5-910E-6ED8D8CC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3971-2259-44ED-87F3-E3144669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AE9-FF9B-4808-8530-B7B0C1A6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1A81-AA94-4C11-8472-7261EF71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4DA-03FA-47D9-810D-CF52637E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0F7-29B3-4787-81BF-157C2E18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CA0-9FD2-4DBC-8B05-C22AA579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488-9765-498F-A62F-E120149D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14A-15E6-4A8A-9134-39A13EF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5BE-3635-434D-AF41-76B8982A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45B-6EF6-4D60-9E0B-6D551DE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D85E-FADF-4831-A22C-B12A2A16E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AD1-2441-43DF-8630-DE6E52977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png"/><Relationship Id="rId8" Type="http://schemas.openxmlformats.org/officeDocument/2006/relationships/image" Target="../media/image77.wmf"/><Relationship Id="rId9" Type="http://schemas.openxmlformats.org/officeDocument/2006/relationships/image" Target="../media/image78.png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e916"/>
                </a:solidFill>
                <a:latin typeface="Arial Narrow"/>
              </a:rPr>
              <a:t>Becoming a Webhead 200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16"/>
                </a:solidFill>
                <a:latin typeface="Arial Narrow"/>
              </a:rPr>
              <a:t>Participants’ Pho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124080"/>
            <a:ext cx="6095880" cy="0"/>
          </a:xfrm>
          <a:prstGeom prst="line">
            <a:avLst/>
          </a:prstGeom>
          <a:ln w="28440">
            <a:solidFill>
              <a:srgbClr val="f7e9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r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h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102564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947880" cy="1218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954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ta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110016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Jap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lisabe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azakh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a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8380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ore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364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Mexic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Áng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8744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328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New Zea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t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c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10364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ortug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i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7794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09224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387440" y="1523880"/>
            <a:ext cx="901800" cy="1141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100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ere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88092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ris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666880" y="32004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Fern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14800" y="3200400"/>
            <a:ext cx="82872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148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amo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eru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o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102852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8967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Russ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91584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799920" cy="1218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1911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f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Argentin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5708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91728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71600" y="327672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90920" y="3276720"/>
            <a:ext cx="100332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R</a:t>
            </a:r>
            <a:r>
              <a:rPr b="0" lang="en-US" sz="1000" spc="-1" strike="noStrike">
                <a:solidFill>
                  <a:srgbClr val="f7e91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lad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ennifer 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elb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419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ic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114800" y="1676520"/>
            <a:ext cx="811080" cy="99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5410080" y="1676520"/>
            <a:ext cx="692280" cy="99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love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41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2590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e916"/>
                </a:solidFill>
                <a:latin typeface="Liborsoft Czechia"/>
              </a:rPr>
              <a:t>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pai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Lu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0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uda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a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12880" cy="1168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ede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184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itzer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iw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sueyling (Dori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973080" cy="13716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jiki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brah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hai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68240" cy="1014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urke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</a:t>
            </a:r>
            <a:r>
              <a:rPr b="0" lang="en-US" sz="1200" spc="-1" strike="noStrike">
                <a:solidFill>
                  <a:srgbClr val="f7e916"/>
                </a:solidFill>
                <a:latin typeface="Liborsoft Czechia"/>
              </a:rPr>
              <a:t>ø</a:t>
            </a: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590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r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83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135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han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46000" cy="1224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82404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936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razi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essand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au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m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Antôn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79056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785880" cy="1067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858600" cy="10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705720" y="1523880"/>
            <a:ext cx="94608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948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90920" y="32004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334120" y="3124080"/>
            <a:ext cx="958680" cy="106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41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nal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705720" y="3124080"/>
            <a:ext cx="8985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057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s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1371600" y="4876920"/>
            <a:ext cx="800280" cy="104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6019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2666880" y="48769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6019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al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038480" y="3200400"/>
            <a:ext cx="927360" cy="106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384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ôn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rain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3996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.S.A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er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o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gar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er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 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943200" cy="1067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1270080" cy="1067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962520" y="1523880"/>
            <a:ext cx="776160" cy="1067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695160" cy="1067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7010280" y="1523880"/>
            <a:ext cx="73044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6240" cy="106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851040" cy="106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962520" y="3200400"/>
            <a:ext cx="95400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5410080" y="3048120"/>
            <a:ext cx="946440" cy="1218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8640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h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6934320" y="3124080"/>
            <a:ext cx="85392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Venezuel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er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4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ora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ev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vely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h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af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9795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75744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771480" cy="1054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324480" y="1447920"/>
            <a:ext cx="795600" cy="1143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1371600" y="1523880"/>
            <a:ext cx="87480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676160" y="2743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With your collabor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more photos will be added so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Can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e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9032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78552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5780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666880" y="1523880"/>
            <a:ext cx="833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Esto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 W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1040" cy="110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Fran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o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erman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arb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ur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666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-De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959040" cy="106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106668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311120" y="14479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864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ree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666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eorgios (J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189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nd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rani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3640" cy="120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8:18:38Z</dcterms:created>
  <dc:creator>Trial User</dc:creator>
  <dc:description/>
  <dc:language>en-US</dc:language>
  <cp:lastModifiedBy>DAF</cp:lastModifiedBy>
  <cp:lastPrinted>1904-01-01T00:00:00Z</cp:lastPrinted>
  <dcterms:modified xsi:type="dcterms:W3CDTF">2007-03-16T22:18:05Z</dcterms:modified>
  <cp:revision>70</cp:revision>
  <dc:subject/>
  <dc:title>Becoming a Webhead 2007</dc:title>
</cp:coreProperties>
</file>